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B57F-E499-4619-9D6B-1B51657DE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5B6E-95C7-448B-A75A-5741A5C23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6CE-D1F7-44C9-BB40-C2A0D33C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5CA-6B29-4528-9E5F-4D9D2047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DE7-D74E-468C-8DC0-FC880279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510-3D06-44FC-AD5B-3016DDEC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AD82-103F-4F1B-8F41-4A6DF99D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F879-C41C-4396-9712-E65BFBA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AB12-1BAD-4C61-BCA0-0E522C82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4242-409D-4C00-9E92-AAC8CC25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0DD6-7126-4DAD-A85F-3A4124E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D357-6B6E-497B-9F51-AEA675B5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0851-646C-4E2F-8848-D2F43E9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C04-264A-493A-98C8-9184FF4F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F46-70C7-4746-BBFD-6EA92E0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6908-A51D-47A1-80F9-57D5CEC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F431-2C46-4466-A2BE-301A5BDB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771-4620-4F11-8D96-81F214AC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7614-7C2A-4939-92FE-4E49C12F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3EA-39A6-4644-BF52-3BFD04EB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0B6-D2F9-465D-BFE0-D23377AD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93D-1AE7-4A11-8DEE-96D84E4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3EA-1CA0-41FB-8F6A-50BB0075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0BC-A94E-48D6-ABF4-4E17FC10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FC3-EB68-4F77-9328-E8974ED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A26-3B2F-43A7-A5C2-746D2436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612E-3744-488E-ABF4-D982ACB989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1CAF-044C-4DBF-9CCD-DAB8F228BA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1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"/>
          <p:cNvSpPr/>
          <p:nvPr/>
        </p:nvSpPr>
        <p:spPr>
          <a:xfrm>
            <a:off x="0" y="220500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5e22c"/>
                </a:solidFill>
                <a:latin typeface="Comic Sans MS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обро пожаловать в л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zvuki_prirody_-_shum_lesa_mp3freemusic.ru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38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457200" y="1600200"/>
            <a:ext cx="4037760" cy="4524480"/>
            <a:chOff x="457200" y="1600200"/>
            <a:chExt cx="4037760" cy="4524480"/>
          </a:xfrm>
        </p:grpSpPr>
        <p:cxnSp>
          <p:nvCxnSpPr>
            <p:cNvPr id="126" name="_s1028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2221560" y="3336480"/>
              <a:ext cx="1557360" cy="1051200"/>
            </a:xfrm>
            <a:prstGeom prst="bentConnector3">
              <a:avLst>
                <a:gd name="adj1" fmla="val 124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29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1172160" y="3337920"/>
              <a:ext cx="1557360" cy="1048680"/>
            </a:xfrm>
            <a:prstGeom prst="bentConnector3">
              <a:avLst>
                <a:gd name="adj1" fmla="val 124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1030"/>
            <p:cNvSpPr/>
            <p:nvPr/>
          </p:nvSpPr>
          <p:spPr>
            <a:xfrm>
              <a:off x="1505520" y="1600200"/>
              <a:ext cx="1938960" cy="1483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Гриб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1"/>
            <p:cNvSpPr/>
            <p:nvPr/>
          </p:nvSpPr>
          <p:spPr>
            <a:xfrm>
              <a:off x="457200" y="4640760"/>
              <a:ext cx="1938960" cy="1483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ъедоб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2556000" y="4640760"/>
              <a:ext cx="1938960" cy="1483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Ядови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Organization Chart 12"/>
          <p:cNvGrpSpPr/>
          <p:nvPr/>
        </p:nvGrpSpPr>
        <p:grpSpPr>
          <a:xfrm>
            <a:off x="4648320" y="1600200"/>
            <a:ext cx="4038120" cy="4524480"/>
            <a:chOff x="4648320" y="1600200"/>
            <a:chExt cx="4038120" cy="4524480"/>
          </a:xfrm>
        </p:grpSpPr>
        <p:cxnSp>
          <p:nvCxnSpPr>
            <p:cNvPr id="132" name="_s1035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6757920" y="3317760"/>
              <a:ext cx="905400" cy="1087920"/>
            </a:xfrm>
            <a:prstGeom prst="bentConnector3">
              <a:avLst>
                <a:gd name="adj1" fmla="val 263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6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5670720" y="3318120"/>
              <a:ext cx="905400" cy="1087560"/>
            </a:xfrm>
            <a:prstGeom prst="bentConnector3">
              <a:avLst>
                <a:gd name="adj1" fmla="val 263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1037"/>
            <p:cNvSpPr/>
            <p:nvPr/>
          </p:nvSpPr>
          <p:spPr>
            <a:xfrm>
              <a:off x="5735160" y="160020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гриб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8"/>
            <p:cNvSpPr/>
            <p:nvPr/>
          </p:nvSpPr>
          <p:spPr>
            <a:xfrm>
              <a:off x="4648320" y="431496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ластинчат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9"/>
            <p:cNvSpPr/>
            <p:nvPr/>
          </p:nvSpPr>
          <p:spPr>
            <a:xfrm>
              <a:off x="6822720" y="4314960"/>
              <a:ext cx="186372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рубчат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Основные меры профилактики пищевых отравлений гриба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обирайте и употребляйте в пищу только хорошо известные вам грибы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собирайте перезрелые, червивые, испорченные грибы, а также грибы вдоль автодорог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ринесенные домой грибы должны быть разобраны, отварены и подвергнуты кулинарной обработке в день сбор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Не рекомендуется использование в питании грибов детям до 5 лет, людям пожилого возраста, с заболеваниями печени, желудка, употребление грибов в большом количест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Приобретайте грибы только в специально отведенных местах на рынках города. При этом нужно помнить, что продажа на рынках консервированных и сухих грибов запреще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При появлении симптомов отравления грибами обращайтесь за специализированной медицинской помощ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Симптомы отравления этими гриба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и в жив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шн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в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ледствие воздействия на центральную нервную систему — зрительные галлюцин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м в уш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овокру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х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игательно-моторная возбудимость и иногда мышечная слаб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ное слюноот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овокружение и головная б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(проявляются через один – два часа после употребления грибов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5e22c"/>
              </a:solidFill>
              <a:latin typeface="Arial"/>
            </a:endParaRPr>
          </a:p>
        </p:txBody>
      </p:sp>
      <p:pic>
        <p:nvPicPr>
          <p:cNvPr id="142" name="Picture 5" descr="ANd9GcQcrLn_8kFaNQxPHbVJx2lUYqlxmlgZ7rCuaBFXoMyjKkXiL87v"/>
          <p:cNvPicPr/>
          <p:nvPr/>
        </p:nvPicPr>
        <p:blipFill>
          <a:blip r:embed="rId1"/>
          <a:stretch/>
        </p:blipFill>
        <p:spPr>
          <a:xfrm>
            <a:off x="2411280" y="1197000"/>
            <a:ext cx="410544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e22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ма урока – «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гра «Грибы – это гриб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КОРЗИНА С ГРИБАМИ"/>
          <p:cNvPicPr/>
          <p:nvPr/>
        </p:nvPicPr>
        <p:blipFill>
          <a:blip r:embed="rId1"/>
          <a:stretch/>
        </p:blipFill>
        <p:spPr>
          <a:xfrm>
            <a:off x="5364000" y="2257560"/>
            <a:ext cx="3168720" cy="3209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Какие тайны грибного царства вы хотели бы узнать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3" descr="p7.gif"/>
          <p:cNvPicPr/>
          <p:nvPr/>
        </p:nvPicPr>
        <p:blipFill>
          <a:blip r:embed="rId1"/>
          <a:stretch/>
        </p:blipFill>
        <p:spPr>
          <a:xfrm>
            <a:off x="3708360" y="4653000"/>
            <a:ext cx="16398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7"/>
          <p:cNvGrpSpPr/>
          <p:nvPr/>
        </p:nvGrpSpPr>
        <p:grpSpPr>
          <a:xfrm>
            <a:off x="5002200" y="4365720"/>
            <a:ext cx="4141440" cy="1224000"/>
            <a:chOff x="5002200" y="4365720"/>
            <a:chExt cx="4141440" cy="1224000"/>
          </a:xfrm>
        </p:grpSpPr>
        <p:sp>
          <p:nvSpPr>
            <p:cNvPr id="149" name="AutoShape 5"/>
            <p:cNvSpPr/>
            <p:nvPr/>
          </p:nvSpPr>
          <p:spPr>
            <a:xfrm>
              <a:off x="5041800" y="4365720"/>
              <a:ext cx="4101840" cy="1224000"/>
            </a:xfrm>
            <a:prstGeom prst="wedgeEllipseCallout">
              <a:avLst>
                <a:gd name="adj1" fmla="val -49745"/>
                <a:gd name="adj2" fmla="val 5583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5002200" y="4510440"/>
              <a:ext cx="3825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риходите ко мн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 лес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гад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сосною у дорож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стоит среди трав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жка есть, но нет сапоже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ляпка есть, нет голо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риб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Наука о грибах-Миколог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чёные размышляю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уда их отнести – к животным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ли растениям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2556000" y="404640"/>
            <a:ext cx="41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ЦАРСТВА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900000" y="907920"/>
            <a:ext cx="19432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Comic Sans MS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564000" y="907920"/>
            <a:ext cx="19429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6227640" y="907920"/>
            <a:ext cx="19432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Comic Sans MS"/>
              </a:rPr>
              <a:t>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 rot="5400000">
            <a:off x="-878400" y="2470680"/>
            <a:ext cx="4995720" cy="28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меют листь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ебли, цв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лоды с семе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р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Не могут с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Пит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створ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воде со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Могут с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рабат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итатель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Для норм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ста нужд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тепле и вла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1965600" y="2505600"/>
            <a:ext cx="5067000" cy="28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едвиг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Использ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ищу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вые организм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тения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Не 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рабаты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щества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 rot="5400000">
            <a:off x="4810320" y="2541960"/>
            <a:ext cx="506700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Пит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лями из поч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Самостоя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передвигаютс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Для норм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ста нужд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тепле и вла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Пит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танками ж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у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могут с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рабаты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00">
    <p:strips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6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8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6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строение гриба2"/>
          <p:cNvPicPr/>
          <p:nvPr/>
        </p:nvPicPr>
        <p:blipFill>
          <a:blip r:embed="rId1"/>
          <a:stretch/>
        </p:blipFill>
        <p:spPr>
          <a:xfrm>
            <a:off x="1403280" y="1268280"/>
            <a:ext cx="6408720" cy="511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роение гри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3924360" y="213372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ляп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3203640" y="357336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ж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916360" y="515772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ибниц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l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НТЕРЕСНЫЙ ФАК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ляпка и ножка – это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ЛОДОВОЕ ТЕЛО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иб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 гриб скрыт под землё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ГРИБНИЦ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есть сам гриб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SANY0759"/>
          <p:cNvPicPr/>
          <p:nvPr/>
        </p:nvPicPr>
        <p:blipFill>
          <a:blip r:embed="rId1"/>
          <a:stretch/>
        </p:blipFill>
        <p:spPr>
          <a:xfrm>
            <a:off x="250920" y="1773360"/>
            <a:ext cx="4394160" cy="3295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250920" y="5445000"/>
            <a:ext cx="3971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ЛОДОВОЕ ТЕ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684360" y="2637000"/>
            <a:ext cx="1079280" cy="2736720"/>
          </a:xfrm>
          <a:custGeom>
            <a:avLst/>
            <a:gdLst>
              <a:gd name="textAreaLeft" fmla="*/ 621000 w 1079280"/>
              <a:gd name="textAreaRight" fmla="*/ 996120 w 1079280"/>
              <a:gd name="textAreaTop" fmla="*/ 630000 h 2736720"/>
              <a:gd name="textAreaBottom" fmla="*/ 91008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974"/>
                </a:lnTo>
                <a:cubicBezTo>
                  <a:pt x="5564" y="4974"/>
                  <a:pt x="0" y="8190"/>
                  <a:pt x="0" y="12158"/>
                </a:cubicBezTo>
                <a:lnTo>
                  <a:pt x="0" y="21600"/>
                </a:lnTo>
                <a:lnTo>
                  <a:pt x="2259" y="21600"/>
                </a:lnTo>
                <a:lnTo>
                  <a:pt x="2259" y="12158"/>
                </a:lnTo>
                <a:cubicBezTo>
                  <a:pt x="2259" y="9411"/>
                  <a:pt x="6811" y="7184"/>
                  <a:pt x="12427" y="7184"/>
                </a:cubicBezTo>
                <a:lnTo>
                  <a:pt x="12427" y="12158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грибница"/>
          <p:cNvPicPr/>
          <p:nvPr/>
        </p:nvPicPr>
        <p:blipFill>
          <a:blip r:embed="rId1"/>
          <a:stretch/>
        </p:blipFill>
        <p:spPr>
          <a:xfrm>
            <a:off x="1643040" y="0"/>
            <a:ext cx="75009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Стрелка вправо 3"/>
          <p:cNvSpPr/>
          <p:nvPr/>
        </p:nvSpPr>
        <p:spPr>
          <a:xfrm>
            <a:off x="1143000" y="5429160"/>
            <a:ext cx="200016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4"/>
          <p:cNvCxnSpPr/>
          <p:nvPr/>
        </p:nvCxnSpPr>
        <p:spPr>
          <a:xfrm>
            <a:off x="3499920" y="5143680"/>
            <a:ext cx="1786680" cy="714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9" name="Прямая со стрелкой 6"/>
          <p:cNvCxnSpPr/>
          <p:nvPr/>
        </p:nvCxnSpPr>
        <p:spPr>
          <a:xfrm>
            <a:off x="5070960" y="5214960"/>
            <a:ext cx="21492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0" name="Прямая со стрелкой 8"/>
          <p:cNvCxnSpPr/>
          <p:nvPr/>
        </p:nvCxnSpPr>
        <p:spPr>
          <a:xfrm flipH="1">
            <a:off x="5643360" y="5287680"/>
            <a:ext cx="2160" cy="5720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Полилиния 11"/>
          <p:cNvSpPr/>
          <p:nvPr/>
        </p:nvSpPr>
        <p:spPr>
          <a:xfrm>
            <a:off x="3548160" y="4803840"/>
            <a:ext cx="5037120" cy="628560"/>
          </a:xfrm>
          <a:custGeom>
            <a:avLst/>
            <a:gdLst/>
            <a:ahLst/>
            <a:rect l="l" t="t" r="r" b="b"/>
            <a:pathLst>
              <a:path w="5036024" h="627797">
                <a:moveTo>
                  <a:pt x="5036024" y="0"/>
                </a:moveTo>
                <a:cubicBezTo>
                  <a:pt x="5017827" y="27296"/>
                  <a:pt x="4991807" y="50765"/>
                  <a:pt x="4981433" y="81887"/>
                </a:cubicBezTo>
                <a:cubicBezTo>
                  <a:pt x="4976884" y="95535"/>
                  <a:pt x="4977957" y="112658"/>
                  <a:pt x="4967785" y="122830"/>
                </a:cubicBezTo>
                <a:cubicBezTo>
                  <a:pt x="4944588" y="146027"/>
                  <a:pt x="4885898" y="177421"/>
                  <a:pt x="4885898" y="177421"/>
                </a:cubicBezTo>
                <a:cubicBezTo>
                  <a:pt x="4876800" y="191069"/>
                  <a:pt x="4870201" y="206766"/>
                  <a:pt x="4858603" y="218364"/>
                </a:cubicBezTo>
                <a:cubicBezTo>
                  <a:pt x="4832145" y="244823"/>
                  <a:pt x="4810018" y="248207"/>
                  <a:pt x="4776716" y="259307"/>
                </a:cubicBezTo>
                <a:cubicBezTo>
                  <a:pt x="4767618" y="272955"/>
                  <a:pt x="4763330" y="291558"/>
                  <a:pt x="4749421" y="300251"/>
                </a:cubicBezTo>
                <a:cubicBezTo>
                  <a:pt x="4725022" y="315500"/>
                  <a:pt x="4694830" y="318448"/>
                  <a:pt x="4667534" y="327546"/>
                </a:cubicBezTo>
                <a:cubicBezTo>
                  <a:pt x="4653886" y="332095"/>
                  <a:pt x="4639458" y="334761"/>
                  <a:pt x="4626591" y="341194"/>
                </a:cubicBezTo>
                <a:cubicBezTo>
                  <a:pt x="4608394" y="350292"/>
                  <a:pt x="4591824" y="363914"/>
                  <a:pt x="4572000" y="368489"/>
                </a:cubicBezTo>
                <a:cubicBezTo>
                  <a:pt x="4531860" y="377752"/>
                  <a:pt x="4490113" y="377588"/>
                  <a:pt x="4449170" y="382137"/>
                </a:cubicBezTo>
                <a:cubicBezTo>
                  <a:pt x="4435522" y="391236"/>
                  <a:pt x="4418474" y="396625"/>
                  <a:pt x="4408227" y="409433"/>
                </a:cubicBezTo>
                <a:cubicBezTo>
                  <a:pt x="4378142" y="447039"/>
                  <a:pt x="4416384" y="516985"/>
                  <a:pt x="4339988" y="532263"/>
                </a:cubicBezTo>
                <a:cubicBezTo>
                  <a:pt x="4257642" y="548731"/>
                  <a:pt x="4293755" y="538574"/>
                  <a:pt x="4230806" y="559558"/>
                </a:cubicBezTo>
                <a:cubicBezTo>
                  <a:pt x="4105596" y="517820"/>
                  <a:pt x="4161237" y="530893"/>
                  <a:pt x="3903260" y="559558"/>
                </a:cubicBezTo>
                <a:cubicBezTo>
                  <a:pt x="3780472" y="573201"/>
                  <a:pt x="3862295" y="586857"/>
                  <a:pt x="3780430" y="600501"/>
                </a:cubicBezTo>
                <a:cubicBezTo>
                  <a:pt x="3648979" y="622410"/>
                  <a:pt x="3726102" y="611644"/>
                  <a:pt x="3548418" y="627797"/>
                </a:cubicBezTo>
                <a:lnTo>
                  <a:pt x="2947916" y="614149"/>
                </a:lnTo>
                <a:cubicBezTo>
                  <a:pt x="2933543" y="613537"/>
                  <a:pt x="2921350" y="601005"/>
                  <a:pt x="2906973" y="600501"/>
                </a:cubicBezTo>
                <a:cubicBezTo>
                  <a:pt x="2661422" y="591885"/>
                  <a:pt x="2415654" y="591403"/>
                  <a:pt x="2169994" y="586854"/>
                </a:cubicBezTo>
                <a:cubicBezTo>
                  <a:pt x="2156346" y="577755"/>
                  <a:pt x="2144040" y="566220"/>
                  <a:pt x="2129051" y="559558"/>
                </a:cubicBezTo>
                <a:cubicBezTo>
                  <a:pt x="2102759" y="547873"/>
                  <a:pt x="2047164" y="532263"/>
                  <a:pt x="2047164" y="532263"/>
                </a:cubicBezTo>
                <a:cubicBezTo>
                  <a:pt x="2033516" y="523164"/>
                  <a:pt x="2021210" y="511629"/>
                  <a:pt x="2006221" y="504967"/>
                </a:cubicBezTo>
                <a:cubicBezTo>
                  <a:pt x="1979929" y="493282"/>
                  <a:pt x="1924334" y="477672"/>
                  <a:pt x="1924334" y="477672"/>
                </a:cubicBezTo>
                <a:cubicBezTo>
                  <a:pt x="1910686" y="468573"/>
                  <a:pt x="1898380" y="457038"/>
                  <a:pt x="1883391" y="450376"/>
                </a:cubicBezTo>
                <a:cubicBezTo>
                  <a:pt x="1857099" y="438691"/>
                  <a:pt x="1801504" y="423081"/>
                  <a:pt x="1801504" y="423081"/>
                </a:cubicBezTo>
                <a:cubicBezTo>
                  <a:pt x="1523423" y="237689"/>
                  <a:pt x="1818696" y="423873"/>
                  <a:pt x="914400" y="382137"/>
                </a:cubicBezTo>
                <a:cubicBezTo>
                  <a:pt x="898015" y="381381"/>
                  <a:pt x="889495" y="358279"/>
                  <a:pt x="873457" y="354842"/>
                </a:cubicBezTo>
                <a:cubicBezTo>
                  <a:pt x="824324" y="344314"/>
                  <a:pt x="773373" y="345743"/>
                  <a:pt x="723331" y="341194"/>
                </a:cubicBezTo>
                <a:cubicBezTo>
                  <a:pt x="696854" y="332368"/>
                  <a:pt x="654281" y="317014"/>
                  <a:pt x="627797" y="313898"/>
                </a:cubicBezTo>
                <a:cubicBezTo>
                  <a:pt x="568888" y="306968"/>
                  <a:pt x="509516" y="304800"/>
                  <a:pt x="450376" y="300251"/>
                </a:cubicBezTo>
                <a:cubicBezTo>
                  <a:pt x="279959" y="243444"/>
                  <a:pt x="423819" y="286603"/>
                  <a:pt x="0" y="286603"/>
                </a:cubicBezTo>
              </a:path>
            </a:pathLst>
          </a:custGeom>
          <a:noFill/>
          <a:ln w="38160">
            <a:solidFill>
              <a:srgbClr val="ae484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12"/>
          <p:cNvSpPr/>
          <p:nvPr/>
        </p:nvSpPr>
        <p:spPr>
          <a:xfrm>
            <a:off x="5308560" y="4913280"/>
            <a:ext cx="3330720" cy="928800"/>
          </a:xfrm>
          <a:custGeom>
            <a:avLst/>
            <a:gdLst/>
            <a:ahLst/>
            <a:rect l="l" t="t" r="r" b="b"/>
            <a:pathLst>
              <a:path w="3330054" h="928048">
                <a:moveTo>
                  <a:pt x="0" y="928048"/>
                </a:moveTo>
                <a:lnTo>
                  <a:pt x="1160060" y="914400"/>
                </a:lnTo>
                <a:cubicBezTo>
                  <a:pt x="1195996" y="913583"/>
                  <a:pt x="1212484" y="888188"/>
                  <a:pt x="1241946" y="873457"/>
                </a:cubicBezTo>
                <a:cubicBezTo>
                  <a:pt x="1269924" y="859468"/>
                  <a:pt x="1325173" y="851352"/>
                  <a:pt x="1351128" y="846161"/>
                </a:cubicBezTo>
                <a:cubicBezTo>
                  <a:pt x="1378424" y="827964"/>
                  <a:pt x="1401893" y="801944"/>
                  <a:pt x="1433015" y="791570"/>
                </a:cubicBezTo>
                <a:cubicBezTo>
                  <a:pt x="1672531" y="711729"/>
                  <a:pt x="1459575" y="778235"/>
                  <a:pt x="2101755" y="764275"/>
                </a:cubicBezTo>
                <a:cubicBezTo>
                  <a:pt x="2225608" y="702348"/>
                  <a:pt x="2177081" y="732255"/>
                  <a:pt x="2251881" y="682388"/>
                </a:cubicBezTo>
                <a:cubicBezTo>
                  <a:pt x="2285384" y="632132"/>
                  <a:pt x="2270802" y="639335"/>
                  <a:pt x="2333767" y="614149"/>
                </a:cubicBezTo>
                <a:cubicBezTo>
                  <a:pt x="2360481" y="603463"/>
                  <a:pt x="2415654" y="586854"/>
                  <a:pt x="2415654" y="586854"/>
                </a:cubicBezTo>
                <a:cubicBezTo>
                  <a:pt x="2429302" y="573206"/>
                  <a:pt x="2440538" y="556616"/>
                  <a:pt x="2456597" y="545910"/>
                </a:cubicBezTo>
                <a:cubicBezTo>
                  <a:pt x="2468567" y="537930"/>
                  <a:pt x="2484673" y="538696"/>
                  <a:pt x="2497540" y="532263"/>
                </a:cubicBezTo>
                <a:cubicBezTo>
                  <a:pt x="2512211" y="524927"/>
                  <a:pt x="2522181" y="506778"/>
                  <a:pt x="2538484" y="504967"/>
                </a:cubicBezTo>
                <a:cubicBezTo>
                  <a:pt x="2647092" y="492899"/>
                  <a:pt x="2756848" y="495868"/>
                  <a:pt x="2866030" y="491319"/>
                </a:cubicBezTo>
                <a:cubicBezTo>
                  <a:pt x="2879678" y="482221"/>
                  <a:pt x="2896726" y="476832"/>
                  <a:pt x="2906973" y="464024"/>
                </a:cubicBezTo>
                <a:cubicBezTo>
                  <a:pt x="2959910" y="397853"/>
                  <a:pt x="2872233" y="439211"/>
                  <a:pt x="2961564" y="409433"/>
                </a:cubicBezTo>
                <a:cubicBezTo>
                  <a:pt x="2966113" y="395785"/>
                  <a:pt x="2965040" y="378662"/>
                  <a:pt x="2975212" y="368490"/>
                </a:cubicBezTo>
                <a:cubicBezTo>
                  <a:pt x="2985384" y="358318"/>
                  <a:pt x="3003288" y="361276"/>
                  <a:pt x="3016155" y="354842"/>
                </a:cubicBezTo>
                <a:cubicBezTo>
                  <a:pt x="3030826" y="347506"/>
                  <a:pt x="3043451" y="336645"/>
                  <a:pt x="3057099" y="327546"/>
                </a:cubicBezTo>
                <a:cubicBezTo>
                  <a:pt x="3066197" y="313898"/>
                  <a:pt x="3071586" y="296850"/>
                  <a:pt x="3084394" y="286603"/>
                </a:cubicBezTo>
                <a:cubicBezTo>
                  <a:pt x="3095627" y="277616"/>
                  <a:pt x="3115165" y="283127"/>
                  <a:pt x="3125337" y="272955"/>
                </a:cubicBezTo>
                <a:cubicBezTo>
                  <a:pt x="3135509" y="262783"/>
                  <a:pt x="3129998" y="243246"/>
                  <a:pt x="3138985" y="232012"/>
                </a:cubicBezTo>
                <a:cubicBezTo>
                  <a:pt x="3149232" y="219204"/>
                  <a:pt x="3166280" y="213815"/>
                  <a:pt x="3179928" y="204716"/>
                </a:cubicBezTo>
                <a:cubicBezTo>
                  <a:pt x="3189027" y="191068"/>
                  <a:pt x="3199888" y="178444"/>
                  <a:pt x="3207224" y="163773"/>
                </a:cubicBezTo>
                <a:cubicBezTo>
                  <a:pt x="3213658" y="150906"/>
                  <a:pt x="3212892" y="134800"/>
                  <a:pt x="3220872" y="122830"/>
                </a:cubicBezTo>
                <a:cubicBezTo>
                  <a:pt x="3231578" y="106771"/>
                  <a:pt x="3248167" y="95535"/>
                  <a:pt x="3261815" y="81887"/>
                </a:cubicBezTo>
                <a:cubicBezTo>
                  <a:pt x="3266364" y="68239"/>
                  <a:pt x="3266476" y="52177"/>
                  <a:pt x="3275463" y="40943"/>
                </a:cubicBezTo>
                <a:cubicBezTo>
                  <a:pt x="3285709" y="28135"/>
                  <a:pt x="3303284" y="23489"/>
                  <a:pt x="3316406" y="13648"/>
                </a:cubicBezTo>
                <a:cubicBezTo>
                  <a:pt x="3321553" y="9788"/>
                  <a:pt x="3325505" y="4549"/>
                  <a:pt x="3330054" y="0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илиния 15"/>
          <p:cNvSpPr/>
          <p:nvPr/>
        </p:nvSpPr>
        <p:spPr>
          <a:xfrm>
            <a:off x="3571920" y="5008680"/>
            <a:ext cx="181080" cy="177840"/>
          </a:xfrm>
          <a:custGeom>
            <a:avLst/>
            <a:gdLst/>
            <a:ahLst/>
            <a:rect l="l" t="t" r="r" b="b"/>
            <a:pathLst>
              <a:path w="180638" h="177421">
                <a:moveTo>
                  <a:pt x="153343" y="177421"/>
                </a:moveTo>
                <a:cubicBezTo>
                  <a:pt x="55895" y="144939"/>
                  <a:pt x="95396" y="166086"/>
                  <a:pt x="30513" y="122830"/>
                </a:cubicBezTo>
                <a:cubicBezTo>
                  <a:pt x="21414" y="109182"/>
                  <a:pt x="0" y="97971"/>
                  <a:pt x="3217" y="81887"/>
                </a:cubicBezTo>
                <a:cubicBezTo>
                  <a:pt x="13138" y="32281"/>
                  <a:pt x="97429" y="72346"/>
                  <a:pt x="3217" y="40944"/>
                </a:cubicBezTo>
                <a:cubicBezTo>
                  <a:pt x="30513" y="31845"/>
                  <a:pt x="56621" y="17717"/>
                  <a:pt x="85104" y="13648"/>
                </a:cubicBezTo>
                <a:lnTo>
                  <a:pt x="180638" y="0"/>
                </a:ln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1:28:33Z</dcterms:created>
  <dc:creator>User</dc:creator>
  <dc:description/>
  <dc:language>en-US</dc:language>
  <cp:lastModifiedBy>Ирусська</cp:lastModifiedBy>
  <dcterms:modified xsi:type="dcterms:W3CDTF">2012-10-17T17:56:52Z</dcterms:modified>
  <cp:revision>1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